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D71-6E63-4FCD-8685-2D909A12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CB4-81C7-4771-B118-62F0808B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F57-6F18-4175-B358-8428B11C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B17-56F5-4B99-8564-9EE592F7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550E-4305-4DD8-9EFB-E6C5B3D9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E063-E2EA-4ED9-92D2-61A1203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355E-17E6-4618-9684-41EBFC1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95D9-BA89-41B5-83F6-EB54954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ACA5-B58C-42D6-BE61-0E8B2608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FBD4-5D06-4D00-BFD5-35295D5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5C19-9BC2-4A44-82C1-8B67394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DAD-7618-4DDB-86D1-C99A96E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EB85-CAA3-4226-A712-BC01812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AE01-9737-4DBF-8260-2CEC80A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D3B6-154A-490E-857A-C9EBE815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71E0-2E96-4B09-9825-2D6F18CA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85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12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85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12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BC7-6DFF-493A-A3DC-FEE4C445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9A4-B62E-45C2-ADF8-497C52B2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3A8-5013-4BEE-AF3A-F5CB1196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D73-CB68-4FA7-8B0C-565FC59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D02-49A2-4A12-A63F-B5C8E6D5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88F-67BA-4DAF-9D8C-0904088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C22-B9F7-4259-B705-A15AE61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CF4-1CE8-44BE-AC9E-19CDACB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6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32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362B-2E01-4552-B8C0-491F3B6DC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6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32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E45-D35D-481F-9106-94CB6257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, Scale, and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440" y="391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DRAWINGS USING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50840" y="160308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#1:  ¼ in = 5 ft is a scale for a rock band’s concert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12760" y="28224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The scale length of the drum stand is 1 in.  What is the actual length of the drum st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46280" y="3889440"/>
                <a:ext cx="41907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awin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jec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awin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5775480" y="3965400"/>
                <a:ext cx="10620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Text Box 9"/>
          <p:cNvSpPr/>
          <p:nvPr/>
        </p:nvSpPr>
        <p:spPr>
          <a:xfrm>
            <a:off x="2498760" y="48038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394240" y="4879800"/>
                <a:ext cx="1700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5686560" y="5261040"/>
                <a:ext cx="1114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12"/>
          <p:cNvSpPr/>
          <p:nvPr/>
        </p:nvSpPr>
        <p:spPr>
          <a:xfrm>
            <a:off x="5775480" y="5641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537240" y="564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699160" y="5565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25 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5"/>
              <p:cNvSpPr txBox="1"/>
              <p:nvPr/>
            </p:nvSpPr>
            <p:spPr>
              <a:xfrm>
                <a:off x="5805360" y="6022800"/>
                <a:ext cx="901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16"/>
          <p:cNvSpPr/>
          <p:nvPr/>
        </p:nvSpPr>
        <p:spPr>
          <a:xfrm>
            <a:off x="2498760" y="541332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498760" y="5413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by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7080" y="418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DRAWINGS USING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cale of .5 in = 4 ft, find the actual length for each scale length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646200" y="3809880"/>
                <a:ext cx="12999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304920" y="4648320"/>
                <a:ext cx="2019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660240" y="5105520"/>
                <a:ext cx="10605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Line 9"/>
          <p:cNvSpPr/>
          <p:nvPr/>
        </p:nvSpPr>
        <p:spPr>
          <a:xfrm>
            <a:off x="685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13716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335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5   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838080" y="5943600"/>
                <a:ext cx="1166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Text Box 13"/>
          <p:cNvSpPr/>
          <p:nvPr/>
        </p:nvSpPr>
        <p:spPr>
          <a:xfrm>
            <a:off x="2666880" y="56386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838080" y="2971800"/>
                <a:ext cx="781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4419720" y="3048120"/>
                <a:ext cx="68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4313160" y="3581280"/>
                <a:ext cx="90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3962520" y="4572000"/>
                <a:ext cx="1593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8"/>
              <p:cNvSpPr txBox="1"/>
              <p:nvPr/>
            </p:nvSpPr>
            <p:spPr>
              <a:xfrm>
                <a:off x="4165560" y="5029200"/>
                <a:ext cx="11127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9"/>
          <p:cNvSpPr/>
          <p:nvPr/>
        </p:nvSpPr>
        <p:spPr>
          <a:xfrm>
            <a:off x="4038480" y="5334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5   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41911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48769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2"/>
              <p:cNvSpPr txBox="1"/>
              <p:nvPr/>
            </p:nvSpPr>
            <p:spPr>
              <a:xfrm>
                <a:off x="4267080" y="5867280"/>
                <a:ext cx="1166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:  Percents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olve problems by using the percent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77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S &amp;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0240" y="1778040"/>
            <a:ext cx="7772400" cy="22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%) mea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 hund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a decimal to a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decimal by 1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ercent sign afte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52520" y="4154400"/>
            <a:ext cx="786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y the decimal by 1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ove the decimal point 2 places to the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ercent sign aft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1328760" y="5835600"/>
                <a:ext cx="2819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5435640" y="5908680"/>
                <a:ext cx="17589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7" name="AutoShape 9"/>
          <p:cNvCxnSpPr/>
          <p:nvPr/>
        </p:nvCxnSpPr>
        <p:spPr>
          <a:xfrm>
            <a:off x="2523600" y="6335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781920" y="876240"/>
            <a:ext cx="63482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a percent to a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percent by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t the percent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62040" y="2786040"/>
            <a:ext cx="65134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9a4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the percent by 100 (move decimal 2 places to the le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9a4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it the percent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048120" y="4572000"/>
                <a:ext cx="2395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7"/>
          <p:cNvSpPr/>
          <p:nvPr/>
        </p:nvSpPr>
        <p:spPr>
          <a:xfrm flipH="1">
            <a:off x="41148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3316320" y="5181480"/>
                <a:ext cx="1758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5200" y="574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S AND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93600" y="21668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following decimals to perc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5000" y="300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450800" y="346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746440" y="30812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65000" y="37670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0.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1527120" y="414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746440" y="369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65000" y="4529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 0.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1527120" y="49100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2746440" y="44528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65000" y="529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1603440" y="574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822400" y="529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4727520" y="2928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  0.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5489640" y="3309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784920" y="292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727520" y="369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.  0.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2"/>
          <p:cNvSpPr/>
          <p:nvPr/>
        </p:nvSpPr>
        <p:spPr>
          <a:xfrm>
            <a:off x="5489640" y="414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6784920" y="369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1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727520" y="44528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.  0.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5565600" y="483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6784920" y="437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4803840" y="5214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.  1.0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565600" y="5595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6708600" y="5138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4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6760" y="348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S AND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65160" y="1941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following percents to deci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36560" y="2779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23.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1270080" y="3236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793960" y="27795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2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36560" y="3541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1193760" y="3922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17640" y="3465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36560" y="4303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 1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1193760" y="4684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2717640" y="4227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36560" y="5065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 flipH="1">
            <a:off x="1270080" y="5522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793960" y="5065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699080" y="270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  1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5003280" y="3084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756480" y="270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699080" y="346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.  3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 flipH="1">
            <a:off x="5156280" y="3922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6756480" y="346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699080" y="4227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.  0.00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 flipH="1">
            <a:off x="5003640" y="4608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6756480" y="4151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0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775040" y="4989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.  3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8"/>
          <p:cNvSpPr/>
          <p:nvPr/>
        </p:nvSpPr>
        <p:spPr>
          <a:xfrm flipH="1">
            <a:off x="5460480" y="5370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6832440" y="4913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cent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1679400" y="1708200"/>
            <a:ext cx="4416480" cy="1720800"/>
          </a:xfrm>
          <a:prstGeom prst="rect">
            <a:avLst/>
          </a:prstGeom>
          <a:solidFill>
            <a:srgbClr val="9cb3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2646720" y="20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2257560" y="255420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2646720" y="277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536640" y="2271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325760" y="2087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4170240" y="2624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4033800" y="253692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1676520" y="3878280"/>
            <a:ext cx="4416480" cy="1720800"/>
          </a:xfrm>
          <a:prstGeom prst="rect">
            <a:avLst/>
          </a:prstGeom>
          <a:solidFill>
            <a:srgbClr val="9cb3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712960" y="41162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4"/>
          <p:cNvSpPr/>
          <p:nvPr/>
        </p:nvSpPr>
        <p:spPr>
          <a:xfrm>
            <a:off x="2325600" y="461160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2714400" y="4836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165560" y="41306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(percen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238640" y="4681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8"/>
          <p:cNvSpPr/>
          <p:nvPr/>
        </p:nvSpPr>
        <p:spPr>
          <a:xfrm>
            <a:off x="4102200" y="459432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3619440" y="43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ing out what goes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640" y="1769760"/>
            <a:ext cx="7772400" cy="16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s/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” will always be “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” will always be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780840" y="378144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 is 15%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587960" y="452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1198440" y="502452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587600" y="524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477880" y="474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3267000" y="45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3111480" y="509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2975040" y="500688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4859640" y="449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470480" y="499428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4859280" y="5219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5749560" y="4711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538680" y="452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6383520" y="5064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6246720" y="497664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4660200" y="379584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ercent of 60 i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olving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270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omparison of two numbers written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95280" y="1582560"/>
            <a:ext cx="81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quation in which two ratios are equal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71520" y="2801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portion can be written using colon notation like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14640" y="3365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3560" y="3795840"/>
            <a:ext cx="80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s the more recognizabl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se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quivalence of two f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287440" y="4711680"/>
                <a:ext cx="731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up a proportion think part/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574280" y="3187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90760" y="323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558800" y="36669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604960" y="3400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055320" y="31431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928600" y="36399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07880" y="421812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 travel 120 miles on 6 gallons of gas, how far can you drive on 8 gallons of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117800" y="6005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066760" y="5810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025800" y="32846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2658960" y="59659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797920" y="5495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258200" y="55213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1119240" y="557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841840" y="5529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4976640" y="55879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x=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119360" y="55720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8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S &amp;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828800" y="2057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following propor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80880" y="2819520"/>
                <a:ext cx="10242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2819520" y="2819520"/>
                <a:ext cx="12160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5181480" y="2895480"/>
                <a:ext cx="1216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7543800" y="2819520"/>
                <a:ext cx="1154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0" y="4038480"/>
                <a:ext cx="1825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304920" y="4572000"/>
                <a:ext cx="1280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2"/>
          <p:cNvSpPr/>
          <p:nvPr/>
        </p:nvSpPr>
        <p:spPr>
          <a:xfrm>
            <a:off x="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– Not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2209680" y="4038480"/>
                <a:ext cx="204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2743200" y="4572000"/>
                <a:ext cx="1216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15"/>
          <p:cNvSpPr/>
          <p:nvPr/>
        </p:nvSpPr>
        <p:spPr>
          <a:xfrm>
            <a:off x="2286000" y="5181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– Not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4572000" y="4038480"/>
                <a:ext cx="2209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876920" y="4572000"/>
                <a:ext cx="1569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 Box 18"/>
          <p:cNvSpPr/>
          <p:nvPr/>
        </p:nvSpPr>
        <p:spPr>
          <a:xfrm>
            <a:off x="4648320" y="51814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– this is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9"/>
              <p:cNvSpPr txBox="1"/>
              <p:nvPr/>
            </p:nvSpPr>
            <p:spPr>
              <a:xfrm>
                <a:off x="7045200" y="4038480"/>
                <a:ext cx="1986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7526160" y="4572000"/>
                <a:ext cx="1249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21"/>
          <p:cNvSpPr/>
          <p:nvPr/>
        </p:nvSpPr>
        <p:spPr>
          <a:xfrm>
            <a:off x="6781680" y="5181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– this is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S &amp;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3520" y="2209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ssing numbers to make the following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685800" y="3505320"/>
                <a:ext cx="11430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52280" y="457200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609480" y="5105520"/>
                <a:ext cx="11923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Line 9"/>
          <p:cNvSpPr/>
          <p:nvPr/>
        </p:nvSpPr>
        <p:spPr>
          <a:xfrm>
            <a:off x="6858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716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838080" y="6172200"/>
                <a:ext cx="855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12"/>
          <p:cNvSpPr/>
          <p:nvPr/>
        </p:nvSpPr>
        <p:spPr>
          <a:xfrm>
            <a:off x="685800" y="5638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9    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762120" y="4114800"/>
            <a:ext cx="228600" cy="2286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3733920" y="3629160"/>
                <a:ext cx="1143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15"/>
          <p:cNvSpPr/>
          <p:nvPr/>
        </p:nvSpPr>
        <p:spPr>
          <a:xfrm>
            <a:off x="3809880" y="3733920"/>
            <a:ext cx="228600" cy="2286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3276720" y="4648320"/>
                <a:ext cx="19238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3505320" y="5029200"/>
                <a:ext cx="1447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Line 18"/>
          <p:cNvSpPr/>
          <p:nvPr/>
        </p:nvSpPr>
        <p:spPr>
          <a:xfrm>
            <a:off x="3505320" y="5410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3505320" y="548640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0    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1"/>
              <p:cNvSpPr txBox="1"/>
              <p:nvPr/>
            </p:nvSpPr>
            <p:spPr>
              <a:xfrm>
                <a:off x="3886200" y="6019920"/>
                <a:ext cx="855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2"/>
              <p:cNvSpPr txBox="1"/>
              <p:nvPr/>
            </p:nvSpPr>
            <p:spPr>
              <a:xfrm>
                <a:off x="6540480" y="3610080"/>
                <a:ext cx="17780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23"/>
          <p:cNvSpPr/>
          <p:nvPr/>
        </p:nvSpPr>
        <p:spPr>
          <a:xfrm>
            <a:off x="8001000" y="4191120"/>
            <a:ext cx="228600" cy="2286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72388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 flipH="1">
            <a:off x="723852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6"/>
              <p:cNvSpPr txBox="1"/>
              <p:nvPr/>
            </p:nvSpPr>
            <p:spPr>
              <a:xfrm>
                <a:off x="6705720" y="4724280"/>
                <a:ext cx="17110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7"/>
              <p:cNvSpPr txBox="1"/>
              <p:nvPr/>
            </p:nvSpPr>
            <p:spPr>
              <a:xfrm>
                <a:off x="6958080" y="5181480"/>
                <a:ext cx="10936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 Us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olve proportions involving scale drawing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88880" y="4348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ALE DRA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0560" y="1835280"/>
            <a:ext cx="7772400" cy="27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ale draw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drawing of an object with dimensions proportional to those of the actual object.  To find lengths from scale drawings, set up and solve propor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_x0019_SI2002-16610_archicon.jpg                                      00034D91_x000c_Macintosh HD                   BC93A1CC:"/>
          <p:cNvPicPr/>
          <p:nvPr/>
        </p:nvPicPr>
        <p:blipFill>
          <a:blip r:embed="rId1"/>
          <a:stretch/>
        </p:blipFill>
        <p:spPr>
          <a:xfrm>
            <a:off x="804960" y="3460680"/>
            <a:ext cx="448632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_x000f_wright_400w.jpg                                                00034D91_x000c_Macintosh HD                   BC93A1CC:"/>
          <p:cNvPicPr/>
          <p:nvPr/>
        </p:nvPicPr>
        <p:blipFill>
          <a:blip r:embed="rId2"/>
          <a:stretch/>
        </p:blipFill>
        <p:spPr>
          <a:xfrm>
            <a:off x="1832040" y="230040"/>
            <a:ext cx="56037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9:07:50Z</dcterms:created>
  <dc:creator>Lisa A. Heaton</dc:creator>
  <dc:description/>
  <cp:keywords/>
  <dc:language>en-US</dc:language>
  <cp:lastModifiedBy>lucy.chambers</cp:lastModifiedBy>
  <dcterms:modified xsi:type="dcterms:W3CDTF">2010-12-09T13:46:19Z</dcterms:modified>
  <cp:revision>137</cp:revision>
  <dc:subject/>
  <dc:title>PowerPoint Presentation  -  No Slide Title</dc:title>
</cp:coreProperties>
</file>